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64C-CA99-4157-B375-F7801157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001A-574E-4D17-AAFB-A3C1AF88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7073-C10A-46C1-9972-CD392B93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685-FF70-4695-AD68-4D731EED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CD0-0E57-4C18-AE86-1D8654DE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705-FBBC-458B-BDFB-02B7570E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B37-F148-43A6-8253-CD3334DF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468-0FC9-4BEB-B019-0F07E620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4745-2D94-4224-9452-1B0C372B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5D3-0755-4120-BBCE-69361818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CB32-B53A-45A9-B454-88B4678C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0A93-79B2-4E9F-987B-F912FD0A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F05C-25BE-435A-8CFA-05175E55B5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ms.mu/3-024/es_es/1/1019/bird.html" TargetMode="External"/><Relationship Id="rId2" Type="http://schemas.openxmlformats.org/officeDocument/2006/relationships/image" Target="../media/image1.gif"/><Relationship Id="rId3" Type="http://schemas.openxmlformats.org/officeDocument/2006/relationships/hyperlink" Target="http://www.sms.mu/3-024/es_es/1/1019/bird.html" TargetMode="External"/><Relationship Id="rId4" Type="http://schemas.openxmlformats.org/officeDocument/2006/relationships/image" Target="../media/image1.gif"/><Relationship Id="rId5" Type="http://schemas.openxmlformats.org/officeDocument/2006/relationships/hyperlink" Target="http://www.sms.mu/3-024/es_es/1/1019/bird.html" TargetMode="External"/><Relationship Id="rId6" Type="http://schemas.openxmlformats.org/officeDocument/2006/relationships/image" Target="../media/image1.gif"/><Relationship Id="rId7" Type="http://schemas.openxmlformats.org/officeDocument/2006/relationships/hyperlink" Target="http://www.sms.mu/3-024/es_es/1/1019/bird.html" TargetMode="External"/><Relationship Id="rId8" Type="http://schemas.openxmlformats.org/officeDocument/2006/relationships/image" Target="../media/image1.gif"/><Relationship Id="rId9" Type="http://schemas.openxmlformats.org/officeDocument/2006/relationships/hyperlink" Target="http://www.sms.mu/3-024/es_es/1/1019/bird.html" TargetMode="External"/><Relationship Id="rId10" Type="http://schemas.openxmlformats.org/officeDocument/2006/relationships/image" Target="../media/image1.gif"/><Relationship Id="rId11" Type="http://schemas.openxmlformats.org/officeDocument/2006/relationships/hyperlink" Target="http://www.sms.mu/3-024/es_es/1/1019/bird.html" TargetMode="External"/><Relationship Id="rId12" Type="http://schemas.openxmlformats.org/officeDocument/2006/relationships/image" Target="../media/image1.gif"/><Relationship Id="rId13" Type="http://schemas.openxmlformats.org/officeDocument/2006/relationships/hyperlink" Target="http://www.sms.mu/3-024/es_es/1/1019/bird.html" TargetMode="External"/><Relationship Id="rId14" Type="http://schemas.openxmlformats.org/officeDocument/2006/relationships/image" Target="../media/image1.gif"/><Relationship Id="rId15" Type="http://schemas.openxmlformats.org/officeDocument/2006/relationships/hyperlink" Target="http://www.sms.mu/3-024/es_es/1/1019/bird.html" TargetMode="External"/><Relationship Id="rId16" Type="http://schemas.openxmlformats.org/officeDocument/2006/relationships/image" Target="../media/image1.gif"/><Relationship Id="rId17" Type="http://schemas.openxmlformats.org/officeDocument/2006/relationships/hyperlink" Target="http://www.sms.mu/3-024/es_es/1/1019/bird.html" TargetMode="External"/><Relationship Id="rId18" Type="http://schemas.openxmlformats.org/officeDocument/2006/relationships/image" Target="../media/image1.gif"/><Relationship Id="rId19" Type="http://schemas.openxmlformats.org/officeDocument/2006/relationships/hyperlink" Target="http://www.sms.mu/3-024/es_es/1/1019/bird.html" TargetMode="External"/><Relationship Id="rId20" Type="http://schemas.openxmlformats.org/officeDocument/2006/relationships/image" Target="../media/image1.gi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rimeraescuela.com/themesp/animales/aves/paloma.htm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primeraescuela.com/themesp/animales/aves/paloma.htm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primeraescuela.com/themesp/animales/aves/paloma.htm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www.primeraescuela.com/themesp/animales/aves/paloma.htm" TargetMode="External"/><Relationship Id="rId8" Type="http://schemas.openxmlformats.org/officeDocument/2006/relationships/image" Target="../media/image3.png"/><Relationship Id="rId9" Type="http://schemas.openxmlformats.org/officeDocument/2006/relationships/hyperlink" Target="http://www.primeraescuela.com/themesp/animales/aves/paloma.htm" TargetMode="External"/><Relationship Id="rId10" Type="http://schemas.openxmlformats.org/officeDocument/2006/relationships/image" Target="../media/image3.png"/><Relationship Id="rId11" Type="http://schemas.openxmlformats.org/officeDocument/2006/relationships/hyperlink" Target="http://www.primeraescuela.com/themesp/animales/aves/paloma.htm" TargetMode="External"/><Relationship Id="rId12" Type="http://schemas.openxmlformats.org/officeDocument/2006/relationships/image" Target="../media/image3.png"/><Relationship Id="rId13" Type="http://schemas.openxmlformats.org/officeDocument/2006/relationships/hyperlink" Target="http://www.primeraescuela.com/themesp/animales/aves/paloma.htm" TargetMode="External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http://media.mediaplazza.com/t_24/120x160/040817_bird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5157720"/>
            <a:ext cx="943200" cy="1257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http://media.mediaplazza.com/t_24/120x160/040817_bird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87640" y="3789360"/>
            <a:ext cx="942840" cy="1257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http://media.mediaplazza.com/t_24/120x160/040817_bird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43640" y="549360"/>
            <a:ext cx="942840" cy="1257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http://media.mediaplazza.com/t_24/120x160/040817_bird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3280" y="549360"/>
            <a:ext cx="943200" cy="1257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http://media.mediaplazza.com/t_24/120x160/040817_bird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987640" y="549360"/>
            <a:ext cx="942840" cy="1257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media.mediaplazza.com/t_24/120x160/040817_bird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72360" y="2276640"/>
            <a:ext cx="942840" cy="125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http://media.mediaplazza.com/t_24/120x160/040817_bird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716360" y="2276640"/>
            <a:ext cx="943200" cy="12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media.mediaplazza.com/t_24/120x160/040817_bird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059280" y="2276640"/>
            <a:ext cx="942840" cy="1257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http://media.mediaplazza.com/t_24/120x160/040817_bird.gif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372360" y="3789360"/>
            <a:ext cx="942840" cy="125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media.mediaplazza.com/t_24/120x160/040817_bird.gif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716360" y="3789360"/>
            <a:ext cx="943200" cy="12574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4"/>
          <p:cNvSpPr/>
          <p:nvPr/>
        </p:nvSpPr>
        <p:spPr>
          <a:xfrm>
            <a:off x="684720" y="272160"/>
            <a:ext cx="180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6600"/>
                </a:solidFill>
                <a:latin typeface="Arial"/>
                <a:ea typeface="Times New Roman"/>
              </a:rPr>
              <a:t>POLLI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1800" y="-256140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1800" y="-102960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7"/>
          <p:cNvSpPr/>
          <p:nvPr/>
        </p:nvSpPr>
        <p:spPr>
          <a:xfrm>
            <a:off x="0" y="50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8"/>
          <p:cNvSpPr/>
          <p:nvPr/>
        </p:nvSpPr>
        <p:spPr>
          <a:xfrm>
            <a:off x="1800" y="175968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468360" y="475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1800" y="60811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1800" y="76129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1800" y="9144720"/>
            <a:ext cx="38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755640" y="5672880"/>
            <a:ext cx="1469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6600"/>
                </a:solidFill>
                <a:latin typeface="Arial"/>
                <a:ea typeface="Times New Roman"/>
              </a:rPr>
              <a:t>SALT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3" descr="http://web.tiscali.it/giochiecolori/disegna/images/pesciolino.gif"/>
          <p:cNvPicPr/>
          <p:nvPr/>
        </p:nvPicPr>
        <p:blipFill>
          <a:blip r:embed="rId1"/>
          <a:stretch/>
        </p:blipFill>
        <p:spPr>
          <a:xfrm>
            <a:off x="4356000" y="5157720"/>
            <a:ext cx="1143000" cy="790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web.tiscali.it/giochiecolori/disegna/images/pesciolino.gif"/>
          <p:cNvPicPr/>
          <p:nvPr/>
        </p:nvPicPr>
        <p:blipFill>
          <a:blip r:embed="rId2"/>
          <a:stretch/>
        </p:blipFill>
        <p:spPr>
          <a:xfrm>
            <a:off x="6372360" y="907920"/>
            <a:ext cx="1143000" cy="790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http://web.tiscali.it/giochiecolori/disegna/images/pesciolino.gif"/>
          <p:cNvPicPr/>
          <p:nvPr/>
        </p:nvPicPr>
        <p:blipFill>
          <a:blip r:embed="rId3"/>
          <a:stretch/>
        </p:blipFill>
        <p:spPr>
          <a:xfrm>
            <a:off x="4356000" y="907920"/>
            <a:ext cx="1143000" cy="790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http://web.tiscali.it/giochiecolori/disegna/images/pesciolino.gif"/>
          <p:cNvPicPr/>
          <p:nvPr/>
        </p:nvPicPr>
        <p:blipFill>
          <a:blip r:embed="rId4"/>
          <a:stretch/>
        </p:blipFill>
        <p:spPr>
          <a:xfrm>
            <a:off x="2195640" y="907920"/>
            <a:ext cx="1143000" cy="79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http://web.tiscali.it/giochiecolori/disegna/images/pesciolino.gif"/>
          <p:cNvPicPr/>
          <p:nvPr/>
        </p:nvPicPr>
        <p:blipFill>
          <a:blip r:embed="rId5"/>
          <a:stretch/>
        </p:blipFill>
        <p:spPr>
          <a:xfrm>
            <a:off x="6372360" y="2421000"/>
            <a:ext cx="1143000" cy="790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://web.tiscali.it/giochiecolori/disegna/images/pesciolino.gif"/>
          <p:cNvPicPr/>
          <p:nvPr/>
        </p:nvPicPr>
        <p:blipFill>
          <a:blip r:embed="rId6"/>
          <a:stretch/>
        </p:blipFill>
        <p:spPr>
          <a:xfrm>
            <a:off x="4284720" y="2492280"/>
            <a:ext cx="1143000" cy="79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web.tiscali.it/giochiecolori/disegna/images/pesciolino.gif"/>
          <p:cNvPicPr/>
          <p:nvPr/>
        </p:nvPicPr>
        <p:blipFill>
          <a:blip r:embed="rId7"/>
          <a:stretch/>
        </p:blipFill>
        <p:spPr>
          <a:xfrm>
            <a:off x="2195640" y="2492280"/>
            <a:ext cx="1143000" cy="790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web.tiscali.it/giochiecolori/disegna/images/pesciolino.gif"/>
          <p:cNvPicPr/>
          <p:nvPr/>
        </p:nvPicPr>
        <p:blipFill>
          <a:blip r:embed="rId8"/>
          <a:stretch/>
        </p:blipFill>
        <p:spPr>
          <a:xfrm>
            <a:off x="6443640" y="4076640"/>
            <a:ext cx="1143000" cy="790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ttp://web.tiscali.it/giochiecolori/disegna/images/pesciolino.gif"/>
          <p:cNvPicPr/>
          <p:nvPr/>
        </p:nvPicPr>
        <p:blipFill>
          <a:blip r:embed="rId9"/>
          <a:stretch/>
        </p:blipFill>
        <p:spPr>
          <a:xfrm>
            <a:off x="4356000" y="4076640"/>
            <a:ext cx="1143000" cy="790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web.tiscali.it/giochiecolori/disegna/images/pesciolino.gif"/>
          <p:cNvPicPr/>
          <p:nvPr/>
        </p:nvPicPr>
        <p:blipFill>
          <a:blip r:embed="rId10"/>
          <a:stretch/>
        </p:blipFill>
        <p:spPr>
          <a:xfrm>
            <a:off x="2411280" y="4076640"/>
            <a:ext cx="1143000" cy="790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4"/>
          <p:cNvSpPr/>
          <p:nvPr/>
        </p:nvSpPr>
        <p:spPr>
          <a:xfrm>
            <a:off x="250560" y="272160"/>
            <a:ext cx="2094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PECECI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1800" y="-83268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1800" y="23256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800" y="134352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1800" y="26377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1800" y="370296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0" y="476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1800" y="555876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1800" y="662400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1800" y="7689240"/>
            <a:ext cx="38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4"/>
          <p:cNvSpPr/>
          <p:nvPr/>
        </p:nvSpPr>
        <p:spPr>
          <a:xfrm>
            <a:off x="828720" y="6092640"/>
            <a:ext cx="566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NADAN</a:t>
            </a:r>
            <a:r>
              <a:rPr b="0" lang="en-GB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3" descr="http://www.primeraescuela.com/images/clip/dove__small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34136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http://www.primeraescuela.com/images/clip/dove__small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134136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http://www.primeraescuela.com/images/clip/dove__small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32000" y="134136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www.primeraescuela.com/images/clip/dove__small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08720" y="2637000"/>
            <a:ext cx="1143000" cy="100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http://www.primeraescuela.com/images/clip/dove__small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132000" y="4005360"/>
            <a:ext cx="1143000" cy="1009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http://www.primeraescuela.com/images/clip/dove__small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435640" y="407664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ttp://www.primeraescuela.com/images/clip/dove__small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03640" y="256536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http://www.primeraescuela.com/images/clip/dove__small.gif"/>
          <p:cNvPicPr/>
          <p:nvPr/>
        </p:nvPicPr>
        <p:blipFill>
          <a:blip r:embed="rId15"/>
          <a:stretch/>
        </p:blipFill>
        <p:spPr>
          <a:xfrm>
            <a:off x="971640" y="270828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http://www.primeraescuela.com/images/clip/dove__small.gif"/>
          <p:cNvPicPr/>
          <p:nvPr/>
        </p:nvPicPr>
        <p:blipFill>
          <a:blip r:embed="rId16"/>
          <a:stretch/>
        </p:blipFill>
        <p:spPr>
          <a:xfrm>
            <a:off x="826920" y="407664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www.primeraescuela.com/images/clip/dove__small.gif"/>
          <p:cNvPicPr/>
          <p:nvPr/>
        </p:nvPicPr>
        <p:blipFill>
          <a:blip r:embed="rId17"/>
          <a:stretch/>
        </p:blipFill>
        <p:spPr>
          <a:xfrm>
            <a:off x="3419640" y="5157720"/>
            <a:ext cx="1143000" cy="1009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4"/>
          <p:cNvSpPr/>
          <p:nvPr/>
        </p:nvSpPr>
        <p:spPr>
          <a:xfrm>
            <a:off x="870840" y="40428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PAJAR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1800" y="-17564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1800" y="-38016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0" y="99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1800" y="5768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2"/>
          <p:cNvSpPr/>
          <p:nvPr/>
        </p:nvSpPr>
        <p:spPr>
          <a:xfrm>
            <a:off x="1800" y="714456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3"/>
          <p:cNvSpPr/>
          <p:nvPr/>
        </p:nvSpPr>
        <p:spPr>
          <a:xfrm>
            <a:off x="1800" y="852084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2229120" y="6092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VUE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3" descr="http://www.primeraescuela.com/images/clip/duck.gif"/>
          <p:cNvPicPr/>
          <p:nvPr/>
        </p:nvPicPr>
        <p:blipFill>
          <a:blip r:embed="rId1"/>
          <a:stretch/>
        </p:blipFill>
        <p:spPr>
          <a:xfrm>
            <a:off x="5796000" y="551664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http://www.primeraescuela.com/images/clip/duck.gif"/>
          <p:cNvPicPr/>
          <p:nvPr/>
        </p:nvPicPr>
        <p:blipFill>
          <a:blip r:embed="rId2"/>
          <a:stretch/>
        </p:blipFill>
        <p:spPr>
          <a:xfrm>
            <a:off x="3924360" y="422100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http://www.primeraescuela.com/images/clip/duck.gif"/>
          <p:cNvPicPr/>
          <p:nvPr/>
        </p:nvPicPr>
        <p:blipFill>
          <a:blip r:embed="rId3"/>
          <a:stretch/>
        </p:blipFill>
        <p:spPr>
          <a:xfrm>
            <a:off x="6659640" y="54936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http://www.primeraescuela.com/images/clip/duck.gif"/>
          <p:cNvPicPr/>
          <p:nvPr/>
        </p:nvPicPr>
        <p:blipFill>
          <a:blip r:embed="rId4"/>
          <a:stretch/>
        </p:blipFill>
        <p:spPr>
          <a:xfrm>
            <a:off x="5148360" y="62064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http://www.primeraescuela.com/images/clip/duck.gif"/>
          <p:cNvPicPr/>
          <p:nvPr/>
        </p:nvPicPr>
        <p:blipFill>
          <a:blip r:embed="rId5"/>
          <a:stretch/>
        </p:blipFill>
        <p:spPr>
          <a:xfrm>
            <a:off x="3851280" y="692280"/>
            <a:ext cx="762120" cy="952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http://www.primeraescuela.com/images/clip/duck.gif"/>
          <p:cNvPicPr/>
          <p:nvPr/>
        </p:nvPicPr>
        <p:blipFill>
          <a:blip r:embed="rId6"/>
          <a:stretch/>
        </p:blipFill>
        <p:spPr>
          <a:xfrm>
            <a:off x="6659640" y="234936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http://www.primeraescuela.com/images/clip/duck.gif"/>
          <p:cNvPicPr/>
          <p:nvPr/>
        </p:nvPicPr>
        <p:blipFill>
          <a:blip r:embed="rId7"/>
          <a:stretch/>
        </p:blipFill>
        <p:spPr>
          <a:xfrm>
            <a:off x="5219640" y="249228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://www.primeraescuela.com/images/clip/duck.gif"/>
          <p:cNvPicPr/>
          <p:nvPr/>
        </p:nvPicPr>
        <p:blipFill>
          <a:blip r:embed="rId8"/>
          <a:stretch/>
        </p:blipFill>
        <p:spPr>
          <a:xfrm>
            <a:off x="3635280" y="256536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http://www.primeraescuela.com/images/clip/duck.gif"/>
          <p:cNvPicPr/>
          <p:nvPr/>
        </p:nvPicPr>
        <p:blipFill>
          <a:blip r:embed="rId9"/>
          <a:stretch/>
        </p:blipFill>
        <p:spPr>
          <a:xfrm>
            <a:off x="6732720" y="407664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www.primeraescuela.com/images/clip/duck.gif"/>
          <p:cNvPicPr/>
          <p:nvPr/>
        </p:nvPicPr>
        <p:blipFill>
          <a:blip r:embed="rId10"/>
          <a:stretch/>
        </p:blipFill>
        <p:spPr>
          <a:xfrm>
            <a:off x="5364000" y="414972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4"/>
          <p:cNvSpPr/>
          <p:nvPr/>
        </p:nvSpPr>
        <p:spPr>
          <a:xfrm>
            <a:off x="786600" y="691920"/>
            <a:ext cx="1512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PATI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1800" y="-1419840"/>
            <a:ext cx="200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1800" y="-222840"/>
            <a:ext cx="200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0" y="9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1800" y="1926360"/>
            <a:ext cx="200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1800" y="3123360"/>
            <a:ext cx="200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1800" y="4381200"/>
            <a:ext cx="200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38160" y="5792040"/>
            <a:ext cx="71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1800" y="6989040"/>
            <a:ext cx="200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1800" y="8186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1050120" y="6092280"/>
            <a:ext cx="13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BAI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9:20:18Z</dcterms:created>
  <dc:creator>usuario</dc:creator>
  <dc:description/>
  <dc:language>en-US</dc:language>
  <cp:lastModifiedBy>Teacher</cp:lastModifiedBy>
  <dcterms:modified xsi:type="dcterms:W3CDTF">2010-02-18T17:29:44Z</dcterms:modified>
  <cp:revision>3</cp:revision>
  <dc:subject/>
  <dc:title>Diapositiva 1</dc:title>
</cp:coreProperties>
</file>